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257640" y="510840"/>
            <a:ext cx="3395520" cy="25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319040" y="3227040"/>
            <a:ext cx="7267680" cy="305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00F94F-D6FB-4272-8450-0F520EC72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257640" y="511200"/>
            <a:ext cx="3395520" cy="254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319040" y="3227040"/>
            <a:ext cx="7267680" cy="305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can be derived by just looking at the linear function of a Gaussian (ax+bu) and a convolution of two Gaus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257640" y="511200"/>
            <a:ext cx="3395520" cy="25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19040" y="3227040"/>
            <a:ext cx="7267680" cy="305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e multiplication of two Gaussians (ignore c matrix to make it eas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rive mean, multiply K = sigma / sigma * q into the equation, expand the left mean by sigma + q / sigma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rive variance, same approach: expand left sigma with sigma + q / sigma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E4FF11-37E5-4D00-9FF3-334F57D48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265560" y="517680"/>
            <a:ext cx="3379680" cy="2535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321920" y="3230640"/>
            <a:ext cx="725652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823624-C9BB-4832-9AFC-3B998F398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265560" y="517680"/>
            <a:ext cx="3379680" cy="2535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321920" y="3230640"/>
            <a:ext cx="725652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23C-98FB-40A3-9327-84ADAB5D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B12-52A0-4181-8676-914D5072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F34-7238-455B-945A-2C90BFE9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C6A-DFBB-4905-BCA8-5831B95C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082-C484-4BD4-B161-A908DB51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9F3F-4C84-4C11-9BCD-6FB721AC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1468-0DC9-4F47-9F9A-8BA2A207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30EA-D78C-443D-A485-7ED44458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01D4-EA5A-40C7-98D1-FEBD2A0D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9980-6A11-411D-B28B-C0FA2768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BD0-9A38-46E5-8D11-AB6794D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41A-7637-4F3D-9843-7C0E7972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E753-B2AD-429E-9466-3DA5FFFF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4DE9-625C-416C-97CF-7E4DCB0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89E7-D0F4-43C8-92D4-AD76D5F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8FB4-4181-4AB9-A753-4789541D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B928-6326-4726-AE90-915584C7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975-4E4C-4954-9C94-B040111A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FE2-500D-4B20-BC20-D4D53B30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DF9-37A8-4378-A2CD-BB386C00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34E-EF63-4896-90D7-21322847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9CE-9A0A-463B-ABA8-B437437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C9B-3796-40E7-88C6-07E80E3A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7F5-9614-406E-A51A-0AD53CF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768F-7159-4F51-AE9C-0E8E0B8BF00E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55E3-9801-4762-88CF-E91942FA0C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7853-D8A6-492F-86D3-5D7BEFE80680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AC2F-4E5F-4693-AF89-0C4F0B86AE07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3243240"/>
            <a:ext cx="7380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Verdana"/>
              </a:rPr>
              <a:t>Bayes Filter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D4D1-4342-4B63-AB7F-189FE5FA2E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67840" y="1255320"/>
            <a:ext cx="8410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ynamics are linear function of state and control plus additive noi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09560" y="2473200"/>
                <a:ext cx="3454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inear Gaussian Systems: Dynamic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22160" y="3260880"/>
                <a:ext cx="617544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23960" y="4164120"/>
                <a:ext cx="8165880" cy="20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FB4-292E-442E-A2A0-03646A37F1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67840" y="1255320"/>
            <a:ext cx="8410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ations are linear function of state plus additive noi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96960" y="2473200"/>
                <a:ext cx="2233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Linear Gaussian Systems: Observation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19280" y="3260880"/>
                <a:ext cx="4325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50960" y="4179960"/>
                <a:ext cx="760392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Σ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A0B-5197-4373-B505-567CCA5A82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11400" y="3451320"/>
                <a:ext cx="4410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Linear Gaussian Systems: Initi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itial belief is normally distribu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CF5-8B6B-416B-A5C6-2631DA2BDF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Kalman Filter Updates in 1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2440" y="1000080"/>
            <a:ext cx="8418600" cy="2895480"/>
            <a:chOff x="352440" y="1000080"/>
            <a:chExt cx="8418600" cy="28954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352440" y="1000080"/>
              <a:ext cx="3960720" cy="28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809960" y="1031760"/>
              <a:ext cx="3961080" cy="286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52440" y="3908520"/>
            <a:ext cx="3960720" cy="28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9EA-C015-4B88-90CC-8CF4C0AF0E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Kalman Filter Update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2440" y="993600"/>
            <a:ext cx="3960720" cy="2864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09960" y="971640"/>
            <a:ext cx="3961080" cy="286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2440" y="3889440"/>
            <a:ext cx="3960720" cy="2863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802040" y="3860640"/>
            <a:ext cx="3961080" cy="286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FE0-8787-4FE5-94D3-F444ADAD0E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Kalman Filter Updates in 1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52440" y="3908520"/>
            <a:ext cx="3960720" cy="286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09960" y="3914640"/>
            <a:ext cx="3961080" cy="28641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748040" y="1268280"/>
            <a:ext cx="4070520" cy="2365200"/>
            <a:chOff x="4748040" y="1268280"/>
            <a:chExt cx="4070520" cy="236520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48040" y="2535120"/>
                  <a:ext cx="4070520" cy="10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el</m:t>
                          </m:r>
                        </m:e>
                      </m:ba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757760" y="1268280"/>
                  <a:ext cx="4013280" cy="10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el</m:t>
                          </m:r>
                        </m:e>
                      </m:ba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92C-9A6D-411B-84D8-726AB1CEE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Kalman Filter Updates in 1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52440" y="3908520"/>
            <a:ext cx="3960720" cy="28638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601560" y="1352520"/>
            <a:ext cx="7985160" cy="1982880"/>
            <a:chOff x="601560" y="1352520"/>
            <a:chExt cx="7985160" cy="198288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1560" y="2448000"/>
                  <a:ext cx="798516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ith   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642600" y="1352520"/>
                  <a:ext cx="658836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ith   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bs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D18-5A2B-4013-B660-CF2DC6C15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inear Gaussian Systems: Dynamic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77960" y="1108080"/>
                <a:ext cx="8096040" cy="503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4D6-7AE5-4D1C-AF44-699E8AC71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Linear Gaussian Systems: Observation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41280" y="1449360"/>
                <a:ext cx="8753400" cy="39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Σ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   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Σ</m:t>
                                </m:r>
                              </m:e>
                            </m:ba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Σ</m:t>
                                </m:r>
                              </m:e>
                            </m:ba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B91-05CB-4961-96A8-C50A24D907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Prediction-Correction-Cyc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98560" y="2165400"/>
            <a:ext cx="2643120" cy="190980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5610240" y="2211480"/>
            <a:ext cx="2732040" cy="3249360"/>
            <a:chOff x="5610240" y="2211480"/>
            <a:chExt cx="2732040" cy="32493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5610240" y="3486240"/>
              <a:ext cx="2732040" cy="197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5815080" y="2211480"/>
              <a:ext cx="2441520" cy="1003320"/>
              <a:chOff x="5815080" y="2211480"/>
              <a:chExt cx="2441520" cy="100332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5815080" y="2748960"/>
                    <a:ext cx="2441520" cy="46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5820840" y="2211480"/>
                    <a:ext cx="2407320" cy="46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ct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92" name=""/>
          <p:cNvSpPr/>
          <p:nvPr/>
        </p:nvSpPr>
        <p:spPr>
          <a:xfrm>
            <a:off x="2695680" y="1228680"/>
            <a:ext cx="4400280" cy="647640"/>
          </a:xfrm>
          <a:custGeom>
            <a:avLst/>
            <a:gdLst>
              <a:gd name="textAreaLeft" fmla="*/ 770040 w 4400280"/>
              <a:gd name="textAreaRight" fmla="*/ 3190320 w 4400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48040" y="1171440"/>
            <a:ext cx="5972040" cy="800280"/>
            <a:chOff x="2048040" y="1171440"/>
            <a:chExt cx="5972040" cy="800280"/>
          </a:xfrm>
        </p:grpSpPr>
        <p:sp>
          <p:nvSpPr>
            <p:cNvPr id="194" name=""/>
            <p:cNvSpPr/>
            <p:nvPr/>
          </p:nvSpPr>
          <p:spPr>
            <a:xfrm>
              <a:off x="2048040" y="1171440"/>
              <a:ext cx="5972040" cy="800280"/>
            </a:xfrm>
            <a:custGeom>
              <a:avLst/>
              <a:gdLst>
                <a:gd name="textAreaLeft" fmla="*/ 1045080 w 5972040"/>
                <a:gd name="textAreaRight" fmla="*/ 4329720 w 5972040"/>
                <a:gd name="textAreaTop" fmla="*/ 106920 h 800280"/>
                <a:gd name="textAreaBottom" fmla="*/ 69336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21320" y="1573200"/>
              <a:ext cx="2365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redi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B06-7AFB-432D-A7AB-8A124D9ECA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diction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rre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120" y="31860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yes Filter Reminder</a:t>
            </a:r>
            <a:endParaRPr b="1" lang="en-US" sz="4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03320" y="2262240"/>
                <a:ext cx="70531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74600" y="4411800"/>
                <a:ext cx="5389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D5F-B3C4-40F0-B094-9985FCF989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Prediction-Correction-Cyc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7960" y="4390920"/>
            <a:ext cx="4076640" cy="992160"/>
            <a:chOff x="507960" y="4390920"/>
            <a:chExt cx="4076640" cy="99216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507960" y="4954680"/>
                  <a:ext cx="4076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525600" y="4390920"/>
                  <a:ext cx="32493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,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bs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610240" y="3486240"/>
            <a:ext cx="2732040" cy="197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95680" y="1228680"/>
            <a:ext cx="4400280" cy="647640"/>
          </a:xfrm>
          <a:custGeom>
            <a:avLst/>
            <a:gdLst>
              <a:gd name="textAreaLeft" fmla="*/ 770040 w 4400280"/>
              <a:gd name="textAreaRight" fmla="*/ 3190320 w 4400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14160" y="5714640"/>
            <a:ext cx="5972040" cy="800280"/>
            <a:chOff x="1514160" y="5714640"/>
            <a:chExt cx="5972040" cy="800280"/>
          </a:xfrm>
        </p:grpSpPr>
        <p:sp>
          <p:nvSpPr>
            <p:cNvPr id="203" name=""/>
            <p:cNvSpPr/>
            <p:nvPr/>
          </p:nvSpPr>
          <p:spPr>
            <a:xfrm rot="10800000">
              <a:off x="1514160" y="5714640"/>
              <a:ext cx="5972040" cy="800280"/>
            </a:xfrm>
            <a:custGeom>
              <a:avLst/>
              <a:gdLst>
                <a:gd name="textAreaLeft" fmla="*/ 1045080 w 5972040"/>
                <a:gd name="textAreaRight" fmla="*/ 4329720 w 5972040"/>
                <a:gd name="textAreaTop" fmla="*/ 106920 h 800280"/>
                <a:gd name="textAreaBottom" fmla="*/ 69336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31880" y="5792760"/>
              <a:ext cx="2400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4440" y="2252520"/>
            <a:ext cx="2708280" cy="19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EBF-296D-4EF0-9327-3685B96A73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Prediction-Correction-Cyc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17480" y="3295800"/>
            <a:ext cx="4075200" cy="991800"/>
            <a:chOff x="717480" y="3295800"/>
            <a:chExt cx="4075200" cy="99180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17480" y="3858840"/>
                  <a:ext cx="40752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34760" y="3295800"/>
                  <a:ext cx="3250440" cy="42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,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bs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0" name=""/>
          <p:cNvGrpSpPr/>
          <p:nvPr/>
        </p:nvGrpSpPr>
        <p:grpSpPr>
          <a:xfrm>
            <a:off x="5977080" y="3306600"/>
            <a:ext cx="2441520" cy="1003320"/>
            <a:chOff x="5977080" y="3306600"/>
            <a:chExt cx="2441520" cy="100332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5977080" y="3844080"/>
                  <a:ext cx="2441520" cy="46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el</m:t>
                          </m:r>
                        </m:e>
                      </m:ba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982840" y="3306600"/>
                  <a:ext cx="2407320" cy="46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el</m:t>
                          </m:r>
                        </m:e>
                      </m:ba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"/>
          <p:cNvSpPr/>
          <p:nvPr/>
        </p:nvSpPr>
        <p:spPr>
          <a:xfrm>
            <a:off x="2695680" y="1228680"/>
            <a:ext cx="4400280" cy="647640"/>
          </a:xfrm>
          <a:custGeom>
            <a:avLst/>
            <a:gdLst>
              <a:gd name="textAreaLeft" fmla="*/ 770040 w 4400280"/>
              <a:gd name="textAreaRight" fmla="*/ 3190320 w 4400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14160" y="4828680"/>
            <a:ext cx="5972040" cy="800280"/>
            <a:chOff x="1514160" y="4828680"/>
            <a:chExt cx="5972040" cy="800280"/>
          </a:xfrm>
        </p:grpSpPr>
        <p:sp>
          <p:nvSpPr>
            <p:cNvPr id="215" name=""/>
            <p:cNvSpPr/>
            <p:nvPr/>
          </p:nvSpPr>
          <p:spPr>
            <a:xfrm rot="10800000">
              <a:off x="1514160" y="4828680"/>
              <a:ext cx="5972040" cy="800280"/>
            </a:xfrm>
            <a:custGeom>
              <a:avLst/>
              <a:gdLst>
                <a:gd name="textAreaLeft" fmla="*/ 1045080 w 5972040"/>
                <a:gd name="textAreaRight" fmla="*/ 4329720 w 5972040"/>
                <a:gd name="textAreaTop" fmla="*/ 106920 h 800280"/>
                <a:gd name="textAreaBottom" fmla="*/ 69336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31880" y="4906800"/>
              <a:ext cx="2400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048040" y="2114640"/>
            <a:ext cx="5972040" cy="799920"/>
            <a:chOff x="2048040" y="2114640"/>
            <a:chExt cx="5972040" cy="799920"/>
          </a:xfrm>
        </p:grpSpPr>
        <p:sp>
          <p:nvSpPr>
            <p:cNvPr id="218" name=""/>
            <p:cNvSpPr/>
            <p:nvPr/>
          </p:nvSpPr>
          <p:spPr>
            <a:xfrm>
              <a:off x="2048040" y="2114640"/>
              <a:ext cx="5972040" cy="799920"/>
            </a:xfrm>
            <a:custGeom>
              <a:avLst/>
              <a:gdLst>
                <a:gd name="textAreaLeft" fmla="*/ 1045080 w 5972040"/>
                <a:gd name="textAreaRight" fmla="*/ 4329720 w 5972040"/>
                <a:gd name="textAreaTop" fmla="*/ 106920 h 799920"/>
                <a:gd name="textAreaBottom" fmla="*/ 6930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21320" y="2516040"/>
              <a:ext cx="2365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redi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210-BC72-498F-95F2-B352DF98C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Kalman Filter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Polynomial in measurement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state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(k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.37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+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Optimal for linear Gaussian system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obotics systems are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nonlinea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2C8-4BD8-467C-BC5D-A555C9C04B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nlinear Dynamic System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ealistic robotic problems involve nonlinear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30400" y="2795760"/>
                <a:ext cx="27381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50920" y="4091040"/>
                <a:ext cx="18763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1C4-5AC2-48B6-A444-E470A27A58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inearity Assumption Revisite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00400" y="1317600"/>
            <a:ext cx="456228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66A-D7DC-4281-BBBB-E07D80A6D2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n-linear Func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78F-1A18-4465-AC37-69AB6B6C16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1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32A-A799-4E6D-86D4-59735DB55C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2)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4E8-07E4-4BF3-8309-93481EA1D6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3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4D8-C5D5-4D9B-9D69-6FF0B6DDAF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: First Order Taylor Series Expans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996840" y="2097000"/>
                <a:ext cx="54579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73160" y="4430880"/>
                <a:ext cx="36082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13A-6CD2-444D-80CC-C87CB28339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4600" y="329040"/>
            <a:ext cx="84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Gaussia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0200" y="485640"/>
            <a:ext cx="8196120" cy="2611440"/>
            <a:chOff x="700200" y="485640"/>
            <a:chExt cx="8196120" cy="261144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00200" y="1087560"/>
                  <a:ext cx="2482560" cy="16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e>
                              </m:rad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μ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9" name=""/>
            <p:cNvGrpSpPr/>
            <p:nvPr/>
          </p:nvGrpSpPr>
          <p:grpSpPr>
            <a:xfrm>
              <a:off x="4933800" y="485640"/>
              <a:ext cx="3962520" cy="2600640"/>
              <a:chOff x="4933800" y="485640"/>
              <a:chExt cx="3962520" cy="2600640"/>
            </a:xfrm>
          </p:grpSpPr>
          <p:pic>
            <p:nvPicPr>
              <p:cNvPr id="1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485640"/>
                <a:ext cx="3962520" cy="2600640"/>
              </a:xfrm>
              <a:prstGeom prst="rect">
                <a:avLst/>
              </a:prstGeom>
              <a:ln w="25560">
                <a:solidFill>
                  <a:srgbClr val="0033cc"/>
                </a:solidFill>
                <a:miter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276960" y="2876400"/>
                <a:ext cx="372960" cy="19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-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75520" y="2879640"/>
                <a:ext cx="372960" cy="19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67360" y="1628640"/>
                <a:ext cx="3733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809640" y="2619360"/>
              <a:ext cx="1895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Univari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54200" y="3222360"/>
            <a:ext cx="8161200" cy="3092400"/>
            <a:chOff x="754200" y="3222360"/>
            <a:chExt cx="8161200" cy="309240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54200" y="3876840"/>
                  <a:ext cx="3551040" cy="14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Ν</m:t>
                          </m:r>
                          <m:r>
                            <m:t xml:space="preserve">(</m:t>
                          </m:r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r>
                            <m:t xml:space="preserve">Σ</m:t>
                          </m:r>
                          <m:r>
                            <m:t xml:space="preserve">)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d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</m:d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den>
                          </m:f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07" name=""/>
            <p:cNvGrpSpPr/>
            <p:nvPr/>
          </p:nvGrpSpPr>
          <p:grpSpPr>
            <a:xfrm>
              <a:off x="4927680" y="3222360"/>
              <a:ext cx="3987720" cy="3092400"/>
              <a:chOff x="4927680" y="3222360"/>
              <a:chExt cx="3987720" cy="3092400"/>
            </a:xfrm>
          </p:grpSpPr>
          <p:sp>
            <p:nvSpPr>
              <p:cNvPr id="108" name=""/>
              <p:cNvSpPr/>
              <p:nvPr/>
            </p:nvSpPr>
            <p:spPr>
              <a:xfrm>
                <a:off x="4927680" y="3429000"/>
                <a:ext cx="3987720" cy="2654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763600">
                <a:off x="6235920" y="3225600"/>
                <a:ext cx="1320840" cy="3085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764200">
                <a:off x="6534000" y="3955680"/>
                <a:ext cx="723960" cy="1625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38920" y="474336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86440" y="4591080"/>
                <a:ext cx="3733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06760" y="5502240"/>
              <a:ext cx="2177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ultivari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3F2-8A52-40D2-A0F1-3D5FB18E0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75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Algorithm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280" y="1217160"/>
            <a:ext cx="8532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xtended_Kalman_fil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481040" y="2500200"/>
                <a:ext cx="17812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454040" y="2924280"/>
                <a:ext cx="2160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333440" y="4029120"/>
                <a:ext cx="3205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406520" y="4452840"/>
                <a:ext cx="2732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434960" y="4857840"/>
                <a:ext cx="2067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23080" y="5500800"/>
                <a:ext cx="1946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81520" y="5510160"/>
                <a:ext cx="1495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031080" y="2476440"/>
                <a:ext cx="2017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012000" y="2924280"/>
                <a:ext cx="2112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950080" y="4029120"/>
                <a:ext cx="3039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972040" y="4429080"/>
                <a:ext cx="2708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92920" y="4857840"/>
                <a:ext cx="2019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 flipH="1">
            <a:off x="4847760" y="272412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47760" y="319104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924080" y="433404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933800" y="4714920"/>
            <a:ext cx="89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914720" y="514368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FF5-0312-42A6-AD58-9BF01AC00E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Polynomial in measurement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state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(k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.37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+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Not optim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iver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nonlinearities are larg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 surprisingly well even when all assumptions are violated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F06-BF07-4525-AA0B-7F9D5E3F00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nscented Transfor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82480" y="1801800"/>
                <a:ext cx="8398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Σ</m:t>
                                    </m:r>
                                  </m:e>
                                </m:rad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fo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626840" y="133668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ma points                               Weigh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74560" y="3892680"/>
                <a:ext cx="1567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65200" y="5000760"/>
                <a:ext cx="340524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66560" y="3462480"/>
            <a:ext cx="60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s sigma points through nonline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4576680"/>
            <a:ext cx="60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ver mean an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97B-B25C-45A6-A293-F2B8A85339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inearization via Unscented Transfor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19240" y="1301760"/>
            <a:ext cx="1820520" cy="2739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74A-D2FB-4634-8E16-C9CCB160D0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igma-Point Estimate (2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90440" y="1317600"/>
            <a:ext cx="1790640" cy="2695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F84-C640-4ECC-8CEE-3AB38E5098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igma-Point Estimate (3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00160" y="1339920"/>
            <a:ext cx="1780920" cy="2682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84E-1B2B-4C4A-A3A5-ABEDEC86D1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Algorith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508040" y="1020600"/>
            <a:ext cx="5418360" cy="583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285-59A3-4530-A0C8-44EFAD5FAB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Same complexity as EKF, with a constant factor slower in typical practical applic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Better linearization than EK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ccurate in first two terms of Taylor expansion (EKF only first ter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erivative-fre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No Jacobians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Still not optim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217-F2F1-488A-8884-2277A6F12B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2412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284120"/>
            <a:ext cx="86868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 belief by random </a:t>
            </a:r>
            <a:r>
              <a:rPr b="0" lang="en-US" sz="2400" spc="-1" strike="noStrike">
                <a:solidFill>
                  <a:srgbClr val="c5051c"/>
                </a:solidFill>
                <a:latin typeface="Verdana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on of </a:t>
            </a:r>
            <a:r>
              <a:rPr b="0" lang="en-US" sz="2400" spc="-1" strike="noStrike">
                <a:solidFill>
                  <a:srgbClr val="c5051c"/>
                </a:solidFill>
                <a:latin typeface="Verdana"/>
              </a:rPr>
              <a:t>non-Gaussian, nonlin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te Carlo filter, Survival of the fittest, Condensation, Bootstrap filter, Particl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ing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Rubin, 88], [Gordon et al., 93], [Kitagawa 9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vis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sard and Blake 96, 98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 Bayesian Network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Kanazawa et al., 95]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40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Particle Filter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E4C-FC4E-4A2B-80D9-D7E55F0079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0880" y="2412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40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Particle Filter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49360" y="892080"/>
            <a:ext cx="6504120" cy="57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597-3C70-4F66-BDE1-075FFAEDF2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1447920"/>
                <a:ext cx="5492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μ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aμ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perties of Gaussia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6200" y="3095640"/>
                <a:ext cx="7991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148-BD2F-467A-9C67-2047268F6D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240" y="10116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Particle Filter Algorithm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74640" y="1146240"/>
            <a:ext cx="8043840" cy="50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7CF-B531-45A8-85D0-89B5CCA9579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sampl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Se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=(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) of weight sam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Want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Random sample, where the probability of draw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iven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ically do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imes with replacement to generate new sample se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1A7-171B-48F2-89AE-F0FB64C5F8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0116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Resampling Algorithm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82480" y="938160"/>
            <a:ext cx="820260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270-022B-429F-8F19-FB142BAFAEE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320800" y="1258920"/>
            <a:ext cx="3159360" cy="3159000"/>
            <a:chOff x="5320800" y="1258920"/>
            <a:chExt cx="3159360" cy="3159000"/>
          </a:xfrm>
        </p:grpSpPr>
        <p:sp>
          <p:nvSpPr>
            <p:cNvPr id="302" name=""/>
            <p:cNvSpPr/>
            <p:nvPr/>
          </p:nvSpPr>
          <p:spPr>
            <a:xfrm>
              <a:off x="5321160" y="1258920"/>
              <a:ext cx="3159000" cy="315900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896160" y="1290240"/>
              <a:ext cx="285480" cy="154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889680" y="1722240"/>
              <a:ext cx="1130400" cy="11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89680" y="2827080"/>
              <a:ext cx="154296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83200" y="2820960"/>
              <a:ext cx="1327320" cy="89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889680" y="1271160"/>
              <a:ext cx="6480" cy="157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6235200" y="1410840"/>
              <a:ext cx="660600" cy="142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479920" y="2116080"/>
              <a:ext cx="1416240" cy="71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422320" y="2293560"/>
              <a:ext cx="147348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320800" y="2833560"/>
              <a:ext cx="156852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13480" y="152064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10360" y="223200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3680" y="1298520"/>
              <a:ext cx="3513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91080" y="134928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76840" y="1692000"/>
              <a:ext cx="5112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02280" y="2833560"/>
              <a:ext cx="762120" cy="139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160" y="2820960"/>
              <a:ext cx="457200" cy="15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413040" y="2852640"/>
              <a:ext cx="476280" cy="149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16200" y="2839680"/>
              <a:ext cx="148572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479920" y="2852640"/>
              <a:ext cx="1416240" cy="69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504040" y="1441440"/>
              <a:ext cx="2793600" cy="2793240"/>
              <a:chOff x="5504040" y="1441440"/>
              <a:chExt cx="2793600" cy="2793240"/>
            </a:xfrm>
          </p:grpSpPr>
          <p:sp>
            <p:nvSpPr>
              <p:cNvPr id="323" name=""/>
              <p:cNvSpPr/>
              <p:nvPr/>
            </p:nvSpPr>
            <p:spPr>
              <a:xfrm rot="515400">
                <a:off x="5673240" y="1610640"/>
                <a:ext cx="2454480" cy="2454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3" idx="2"/>
                <a:endCxn id="323" idx="6"/>
              </p:cNvCxnSpPr>
              <p:nvPr/>
            </p:nvCxnSpPr>
            <p:spPr>
              <a:xfrm>
                <a:off x="5673240" y="2652120"/>
                <a:ext cx="2453400" cy="370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25" name=""/>
              <p:cNvCxnSpPr>
                <a:stCxn id="323" idx="0"/>
                <a:endCxn id="323" idx="4"/>
              </p:cNvCxnSpPr>
              <p:nvPr/>
            </p:nvCxnSpPr>
            <p:spPr>
              <a:xfrm flipH="1">
                <a:off x="6714360" y="1611000"/>
                <a:ext cx="370440" cy="2453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26" name=""/>
              <p:cNvCxnSpPr>
                <a:stCxn id="323" idx="1"/>
                <a:endCxn id="323" idx="5"/>
              </p:cNvCxnSpPr>
              <p:nvPr/>
            </p:nvCxnSpPr>
            <p:spPr>
              <a:xfrm>
                <a:off x="6173280" y="1836000"/>
                <a:ext cx="1453320" cy="2002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27" name=""/>
              <p:cNvCxnSpPr>
                <a:stCxn id="323" idx="3"/>
                <a:endCxn id="323" idx="7"/>
              </p:cNvCxnSpPr>
              <p:nvPr/>
            </p:nvCxnSpPr>
            <p:spPr>
              <a:xfrm flipV="1">
                <a:off x="5909760" y="2095920"/>
                <a:ext cx="1980360" cy="1481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</p:grpSp>
      <p:grpSp>
        <p:nvGrpSpPr>
          <p:cNvPr id="328" name=""/>
          <p:cNvGrpSpPr/>
          <p:nvPr/>
        </p:nvGrpSpPr>
        <p:grpSpPr>
          <a:xfrm>
            <a:off x="5204160" y="1143000"/>
            <a:ext cx="3393360" cy="3393720"/>
            <a:chOff x="5204160" y="1143000"/>
            <a:chExt cx="3393360" cy="3393720"/>
          </a:xfrm>
        </p:grpSpPr>
        <p:sp>
          <p:nvSpPr>
            <p:cNvPr id="329" name=""/>
            <p:cNvSpPr/>
            <p:nvPr/>
          </p:nvSpPr>
          <p:spPr>
            <a:xfrm rot="1972200">
              <a:off x="5673600" y="1612440"/>
              <a:ext cx="2454480" cy="2454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9" idx="2"/>
              <a:endCxn id="329" idx="6"/>
            </p:cNvCxnSpPr>
            <p:nvPr/>
          </p:nvCxnSpPr>
          <p:spPr>
            <a:xfrm>
              <a:off x="5858280" y="2165760"/>
              <a:ext cx="2084400" cy="134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1" name=""/>
            <p:cNvCxnSpPr>
              <a:stCxn id="329" idx="0"/>
              <a:endCxn id="329" idx="4"/>
            </p:cNvCxnSpPr>
            <p:nvPr/>
          </p:nvCxnSpPr>
          <p:spPr>
            <a:xfrm flipH="1">
              <a:off x="6226920" y="1796400"/>
              <a:ext cx="1346400" cy="20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2" name=""/>
            <p:cNvCxnSpPr>
              <a:stCxn id="329" idx="1"/>
              <a:endCxn id="329" idx="5"/>
            </p:cNvCxnSpPr>
            <p:nvPr/>
          </p:nvCxnSpPr>
          <p:spPr>
            <a:xfrm>
              <a:off x="6649920" y="1627200"/>
              <a:ext cx="501120" cy="2423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"/>
            <p:cNvCxnSpPr>
              <a:stCxn id="329" idx="3"/>
              <a:endCxn id="329" idx="7"/>
            </p:cNvCxnSpPr>
            <p:nvPr/>
          </p:nvCxnSpPr>
          <p:spPr>
            <a:xfrm flipV="1">
              <a:off x="5693400" y="2570760"/>
              <a:ext cx="2414160" cy="53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sampl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7760" y="1323720"/>
            <a:ext cx="3029400" cy="3029400"/>
            <a:chOff x="5387760" y="1323720"/>
            <a:chExt cx="3029400" cy="3029400"/>
          </a:xfrm>
        </p:grpSpPr>
        <p:sp>
          <p:nvSpPr>
            <p:cNvPr id="336" name=""/>
            <p:cNvSpPr/>
            <p:nvPr/>
          </p:nvSpPr>
          <p:spPr>
            <a:xfrm rot="947400">
              <a:off x="5675040" y="1611000"/>
              <a:ext cx="2454120" cy="2454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6" idx="2"/>
              <a:endCxn id="336" idx="6"/>
            </p:cNvCxnSpPr>
            <p:nvPr/>
          </p:nvCxnSpPr>
          <p:spPr>
            <a:xfrm>
              <a:off x="5708520" y="2500200"/>
              <a:ext cx="2387160" cy="674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8" name=""/>
            <p:cNvCxnSpPr>
              <a:stCxn id="336" idx="0"/>
              <a:endCxn id="336" idx="4"/>
            </p:cNvCxnSpPr>
            <p:nvPr/>
          </p:nvCxnSpPr>
          <p:spPr>
            <a:xfrm flipH="1">
              <a:off x="6563880" y="1644120"/>
              <a:ext cx="674640" cy="238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9" name=""/>
            <p:cNvCxnSpPr>
              <a:stCxn id="336" idx="1"/>
              <a:endCxn id="336" idx="5"/>
            </p:cNvCxnSpPr>
            <p:nvPr/>
          </p:nvCxnSpPr>
          <p:spPr>
            <a:xfrm>
              <a:off x="6306480" y="1753200"/>
              <a:ext cx="1190520" cy="216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0" name=""/>
            <p:cNvCxnSpPr>
              <a:stCxn id="336" idx="3"/>
              <a:endCxn id="336" idx="7"/>
            </p:cNvCxnSpPr>
            <p:nvPr/>
          </p:nvCxnSpPr>
          <p:spPr>
            <a:xfrm flipV="1">
              <a:off x="5826600" y="2226240"/>
              <a:ext cx="2150280" cy="122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41" name=""/>
          <p:cNvGrpSpPr/>
          <p:nvPr/>
        </p:nvGrpSpPr>
        <p:grpSpPr>
          <a:xfrm>
            <a:off x="767880" y="1319040"/>
            <a:ext cx="3159360" cy="3159000"/>
            <a:chOff x="767880" y="1319040"/>
            <a:chExt cx="3159360" cy="3159000"/>
          </a:xfrm>
        </p:grpSpPr>
        <p:sp>
          <p:nvSpPr>
            <p:cNvPr id="342" name=""/>
            <p:cNvSpPr/>
            <p:nvPr/>
          </p:nvSpPr>
          <p:spPr>
            <a:xfrm>
              <a:off x="768240" y="1319040"/>
              <a:ext cx="3159000" cy="315900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342880" y="1350720"/>
              <a:ext cx="285840" cy="15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336760" y="1782000"/>
              <a:ext cx="1130400" cy="11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36760" y="2887200"/>
              <a:ext cx="154296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30280" y="2881080"/>
              <a:ext cx="1327320" cy="89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336760" y="1331640"/>
              <a:ext cx="612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1682640" y="1470960"/>
              <a:ext cx="66024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926640" y="2175840"/>
              <a:ext cx="141588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869760" y="2354040"/>
              <a:ext cx="147312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7880" y="2893680"/>
              <a:ext cx="156852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60560" y="158076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57440" y="229212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00760" y="1358640"/>
              <a:ext cx="3513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38160" y="140940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23920" y="1752120"/>
              <a:ext cx="5112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49360" y="2893680"/>
              <a:ext cx="762120" cy="13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42880" y="2881080"/>
              <a:ext cx="457200" cy="15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860120" y="2912760"/>
              <a:ext cx="476280" cy="149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63280" y="2900160"/>
              <a:ext cx="148572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926640" y="2912760"/>
              <a:ext cx="1415880" cy="69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15400">
              <a:off x="1120320" y="1670760"/>
              <a:ext cx="2454120" cy="2454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V="1">
            <a:off x="2349360" y="2673360"/>
            <a:ext cx="120672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057040" y="1707840"/>
            <a:ext cx="29196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397160" y="2914560"/>
            <a:ext cx="939600" cy="75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11560" y="2870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8280" y="4959360"/>
            <a:ext cx="29404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ulette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ary search, n lo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56680" y="4540320"/>
            <a:ext cx="419940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chastic universal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atic re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ar time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y to implement, low 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1B6-1B22-4274-9137-6DEE8FE888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1370160"/>
            <a:ext cx="84103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cle filters are an implementation of recursive Bayesian filt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represent the posterior by a set of weighted sam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context of localization, the particles are propagated according to the motion mod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then weighted according to the likelihood of the observ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re-sampling step, new particles are drawn with a probability proportional to the likelihood of the observ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D96-411A-40CE-9E65-EEF844974C8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stay in the “Gaussian world” as long as we start with Gaussians and perform only linear transform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6200" y="1473120"/>
                <a:ext cx="58370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μ</m:t>
                              </m:r>
                              <m:r>
                                <m:t xml:space="preserve">,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Aμ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AΣ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ultivariate Gaussia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31800" y="3184560"/>
                <a:ext cx="8319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FCA-F89F-4FBC-A52E-83BBE8031C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screte Kalman Filter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95240" y="2835360"/>
                <a:ext cx="3454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9880" y="4921200"/>
                <a:ext cx="2233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708120" y="1225440"/>
            <a:ext cx="8126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 the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discrete-time controlled process that is governed by the linear stochastic differenc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080" y="4016520"/>
            <a:ext cx="812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measur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F9B-D8C0-482E-807B-9B4ABE0491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mponents of a Kalman Filter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03240" y="4797360"/>
                <a:ext cx="4176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622520" y="1425600"/>
            <a:ext cx="7126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rix (nxn) that describes how the state evolve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out controls or no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82640" y="1454040"/>
                <a:ext cx="487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641600" y="2549520"/>
            <a:ext cx="71262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rix (nxm) that describes how the contr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hanges the stat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01720" y="2597040"/>
                <a:ext cx="487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689120" y="3692520"/>
            <a:ext cx="71262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rix (kxn) that describes how to map the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an observ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49240" y="3759120"/>
                <a:ext cx="487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98560" y="5549760"/>
                <a:ext cx="419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746360" y="4778280"/>
            <a:ext cx="71262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 variables representing the process and measurement noise that are assumed to be independent and normally distributed with covari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CBD-CCDD-4159-883C-6CEF40DC92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rre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120" y="31860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yes Filter Reminder</a:t>
            </a:r>
            <a:endParaRPr b="1" lang="en-US" sz="4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03320" y="2262240"/>
                <a:ext cx="70531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74600" y="4411800"/>
                <a:ext cx="5389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41A-50F4-4023-B66A-716AA4B02C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75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Kalman Filter Algorithm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21716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Algorithm</a:t>
            </a: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 Kalman_fil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96880" y="2476440"/>
                <a:ext cx="2017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77800" y="2924280"/>
                <a:ext cx="2113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14440" y="4029120"/>
                <a:ext cx="3040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38200" y="4429080"/>
                <a:ext cx="2708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459080" y="4857840"/>
                <a:ext cx="2019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186-BB2C-4AF1-94FD-5131069A5B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33:42Z</dcterms:created>
  <dc:creator/>
  <dc:description/>
  <dc:language>en-US</dc:language>
  <cp:lastModifiedBy>-</cp:lastModifiedBy>
  <dcterms:modified xsi:type="dcterms:W3CDTF">2011-09-01T22:05:59Z</dcterms:modified>
  <cp:revision>73</cp:revision>
  <dc:subject/>
  <dc:title>Introduction to  Mobile Robotics</dc:title>
</cp:coreProperties>
</file>